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504E-D4DB-475A-8D4F-331D869F8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4DBD-A1CA-4463-B22D-436AA892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E92A-BD78-4F49-9C2C-589B3244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04A9-7BDC-4D0F-99D8-9598A5BE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D19A-DE3D-4F2E-B047-58142C64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C9F7-36AB-44F6-B4E0-D85C3D31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339F-FFFF-4DD5-BCF5-7185D6BF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8242-64D2-4D28-884E-E7950F49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BC38-23C3-473B-BADA-52A41797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7D01-8BE9-4606-B31B-F4601B44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778A-C1F8-4624-A98C-6214ADD06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F016-CFE6-4F35-B898-86901B9CA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C685-3016-45CD-A3B9-9365F282F4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VE CRI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072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Dr Violeta Irić Ćup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TEGRATED STUDIES OF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k 4, unit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ed of regulation of blood pressure -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gre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of therapeutic ur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degre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Within a few minutes or within the first hou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ephalopathy with convul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lamp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section of the a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cholamine crises (Pheochromocytoma cris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ed of regulation of blood pressure -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gre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of therapeutic ur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gre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 few hou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hypertensive heart failure (pulmonary edema I-II degre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eclamp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ignant 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lerated 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00" y="1125000"/>
            <a:ext cx="84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ed of regulation of blood pressure -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gre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of therapeutic ur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Rectangle 3" descr=""/>
          <p:cNvPicPr/>
          <p:nvPr/>
        </p:nvPicPr>
        <p:blipFill>
          <a:blip r:embed="rId1"/>
          <a:stretch/>
        </p:blipFill>
        <p:spPr>
          <a:xfrm>
            <a:off x="457200" y="2236680"/>
            <a:ext cx="82296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apy in hypertensive crisis (vasodilators or adrenergic inhibi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500200"/>
            <a:ext cx="8229600" cy="43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depend solely on the degree of therapeutic urgency and not on the pressure valu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g eclampsia with convulsions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ed of regulation of blood pressure -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gre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of therapeutic ur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14200" y="2287080"/>
            <a:ext cx="8715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peed of regulation of arterial hypertension, as well as the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s of arterial hypertension, are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pulmonary edema, aortic dissection → decrease in 15 to 30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ve encephalopathy → decrease by 25%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 B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ring 2-3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o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decrease to a value of 170-180/100mmHg during 6-12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apeutic strategies in hypertensive patients with acute stroke and cerebrovascular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229600" cy="4586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4788000" y="5229360"/>
            <a:ext cx="2286000" cy="360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3"/>
          <a:stretch/>
        </p:blipFill>
        <p:spPr>
          <a:xfrm>
            <a:off x="3995640" y="2708280"/>
            <a:ext cx="228600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apeutic procedures - parenteral or 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dvantage of parenteral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in the easy and quick monitoring of the hypotensive effect, but also in the method of administration in life-threatening patients (impossibility of per os administration, impaired consciousn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apeutic procedures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gen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hypertensive conditions (parente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- nitroprus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ve encephalopathy (Medicine of choice), cerebral hemorrhage or infarction, acute left ventricular weakness, acute coronary insufficiency, aneurysm dissection, catecholamine crisis, head injury, after surgery, malignant hyper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troglycerin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LV weakness, acute coronary insufficiency, postoper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apeutic procedures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gen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hypertensive conditions (parente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2428920"/>
            <a:ext cx="822960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apid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pheral blocker of postsynaptic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ά1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nergic receptors (reduces peripheral vascular resistance), central sympatholytic effect, manifested in 2 to 5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ok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V insu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alazine, Diaz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lampsia, extensive burns, malignant hyper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apeutic procedures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gen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hypertensive conditions (parente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22856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entolamin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cholamine cri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tal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ve encephalopathy, acute coronary insufficiency, burns, postoperative, malignant hypertension (not in broncho-obstruction, AV block, SA blo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pertensive crisis-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udden and large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blood pressure values in a short time interval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, currently, the absolute measured blood pressure values are less important for defining the hypertensive crisis itself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ptomatic or with signs of vascular damage to vital organs (encephalopathy, kidney and heart failure)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3840" y="106164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apeutic procedures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gen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hypertensive conditions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o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2560" y="2276280"/>
            <a:ext cx="777240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topril, enalapril, ramipr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ni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fedi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532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urrent recommendations for therapeutic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55640" y="1557360"/>
          <a:ext cx="7416720" cy="5754600"/>
        </p:xfrm>
        <a:graphic>
          <a:graphicData uri="http://schemas.openxmlformats.org/drawingml/2006/table">
            <a:tbl>
              <a:tblPr/>
              <a:tblGrid>
                <a:gridCol w="2112840"/>
                <a:gridCol w="2651400"/>
                <a:gridCol w="2652480"/>
              </a:tblGrid>
              <a:tr h="37368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Diagno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Medicine of cho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Contraind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Cerebral ischem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/labetal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nifedipine/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12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Cerebral hemorrh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/labetalol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tg/Nifedip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Hypertensive encephalopat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/labetal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tg/Nifedip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A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glycer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laz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Nifedip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00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Acute left ventricular fail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/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roglycer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laz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Nifedip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04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Aortic dis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Eclamp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/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troglyceri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pidil-hydralaz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laz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Nifedipin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80"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7520" bIns="475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914400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 the therapy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pertensiv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crisis, it is not recomm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79280" y="1989000"/>
          <a:ext cx="8275680" cy="4268880"/>
        </p:xfrm>
        <a:graphic>
          <a:graphicData uri="http://schemas.openxmlformats.org/drawingml/2006/table">
            <a:tbl>
              <a:tblPr/>
              <a:tblGrid>
                <a:gridCol w="4426200"/>
                <a:gridCol w="3849480"/>
              </a:tblGrid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 not lower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BP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oo quick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bound 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enomenon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ctive tachycardia, arrhythmia, arterial hypertens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 not treat with sublingual nifedip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"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bound 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enomen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reased requirements of the myocardium for 02, cerebral hypoperfu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 not treat every crisis with parenteral furosem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ectrolyte imbal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Do not treat 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wit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Cirilica"/>
                        </a:rPr>
                        <a:t> Nt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reased intracranial press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eneral precautions in the treatment of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pertensiv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priate lying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elderly, start with a lower d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t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aracteristics of a good </a:t>
            </a: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dicamen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used in the therapy of hypertensive crisi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the pressure is not lowered too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it is titratable and that the hypotensive effect can be contro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there are no contraindications for various clinical manifestations of hypertensive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there are no significant interactions with other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a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it is eff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side effects are rare and m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change in definition and termi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symptomati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ow called chronic unrecognized hyperten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th signs of vascular damage to vital orga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cephalopathy, kidney and heart failure)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 hypertensive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pidem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%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s that have essential hyper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rely in normotensive patients (stress,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uma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r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inical manifes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700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dden onset, progressive 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ptomatic or with signs of vascular damage to vital organs (encephalopathy, kidney and heart failure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ache, anxiety, fear, suff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ephalopathy (headache, nausea, vomi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edema, decreased renal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allmark of this condition is small artery fibrinoid necrosis in the kidney, retina, and b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inical manifestation and H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on mediated organ damage (HMOD) refers to structural or functional changes in arteries or in target organs that can be present in long-standing hypertension, but it can be also found in naive never treated patients, or in hypertensive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allmark of this condition is small artery fibrinoid necrosis in the kidney, retina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b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ve crisis </a:t>
            </a:r>
            <a:br>
              <a:rPr sz="2800"/>
            </a:b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gency or emergency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on emergency are situations in which severe hypertension (grade 3) is associated with acute HMOD, which is often life-threatening and requires immediate but careful intervention to lower BP, usually with intravenous therap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ate and magnitude of an increase in BP must be at least important as the absolute level of BP in determining the magnitude of organ inju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ve crisi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gency or emergency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presentation  of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pertension emergency are patients with malignant hypertension (fundoscopic changes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lame haemorrhages with/or papilloedema, microangiopathy, and can be associated with encephalopathy, acute hearth failure, and acute deterioration in renal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most important rules in the treatment of hypertensive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peed of blood pressure regulation depends on the degree of therapeutic ur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15:51:59Z</dcterms:created>
  <dc:creator>Registered User</dc:creator>
  <dc:description/>
  <dc:language>en-US</dc:language>
  <cp:lastModifiedBy>Violeta</cp:lastModifiedBy>
  <dcterms:modified xsi:type="dcterms:W3CDTF">2023-08-19T17:35:44Z</dcterms:modified>
  <cp:revision>85</cp:revision>
  <dc:subject/>
  <dc:title>Hipertenzivna kriza-hitno ili urgentno stanj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